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B693-16B2-4395-8526-3E7343756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80C6-A138-485E-BD8B-9633CA98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9316-5CD1-42EC-81CC-EC93FE4C4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1EC5-F825-4C70-8410-A3C4E7854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24A4-7813-4E30-9644-AFF13155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16E5-F2A6-432F-AE65-7068EC59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AEC4-AA57-49B3-B6CD-7ED79C4A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C41D-3C92-4079-B238-F55AA4AA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26A6-BEB8-4451-9FEC-5605C9A6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FCDD-4E2E-47DA-BBB6-4818B500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010D-4F6E-4ACA-A933-5A0E998E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2343-E5EE-41F6-BB59-28CFBB68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2E20-F1B9-4262-B24B-60F8229AC0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ojai.net/swanson/theraven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335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Atmosphere and symbolism i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poet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2819520"/>
            <a:ext cx="79246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00"/>
                </a:solidFill>
                <a:uFillTx/>
                <a:latin typeface="Times New Roman"/>
              </a:rPr>
              <a:t>LO’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5335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Atmosphere and symbolism i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poet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2819520"/>
            <a:ext cx="79246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00"/>
                </a:solidFill>
                <a:uFillTx/>
                <a:latin typeface="Times New Roman"/>
              </a:rPr>
              <a:t>LO’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2286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Describe the feelings that come to mind after reading these word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954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e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53600" y="319572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le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29280" y="5834160"/>
            <a:ext cx="159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ackadder ITC"/>
              </a:rPr>
              <a:t>Gh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734520" y="4255920"/>
            <a:ext cx="128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rinda"/>
              </a:rPr>
              <a:t>L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5600" y="2057400"/>
            <a:ext cx="155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ras Demi ITC"/>
              </a:rPr>
              <a:t>So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73120" y="2532240"/>
            <a:ext cx="196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Dark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5943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ngravers MT"/>
              </a:rPr>
              <a:t>Melancho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39920" y="389736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r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87692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Modern"/>
              </a:rPr>
              <a:t>Still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61880" y="4802040"/>
            <a:ext cx="147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Ster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838080"/>
            <a:ext cx="853452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of these words are from a very famous poem. Make some guesses about the setting and atmosphere of the poem such a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ime of day is i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ime of year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s the author feeling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he alone or with other people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90720" y="2666880"/>
            <a:ext cx="7238880" cy="581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ojai.net/swanson/theraven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23560" y="533520"/>
            <a:ext cx="32529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Blackadder ITC"/>
              </a:rPr>
              <a:t>The Rave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by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Edgar Allan P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352680" y="3733920"/>
            <a:ext cx="268632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533520" y="457200"/>
            <a:ext cx="8001000" cy="5715000"/>
            <a:chOff x="533520" y="457200"/>
            <a:chExt cx="8001000" cy="5715000"/>
          </a:xfrm>
        </p:grpSpPr>
        <p:sp>
          <p:nvSpPr>
            <p:cNvPr id="59" name=""/>
            <p:cNvSpPr/>
            <p:nvPr/>
          </p:nvSpPr>
          <p:spPr>
            <a:xfrm>
              <a:off x="533520" y="457200"/>
              <a:ext cx="8001000" cy="571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57600" y="457200"/>
              <a:ext cx="0" cy="571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3520" y="1066680"/>
              <a:ext cx="800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9480" y="533520"/>
              <a:ext cx="381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in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733920" y="5335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chniqu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43600" y="457200"/>
              <a:ext cx="0" cy="571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19920" y="5335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ffec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95280" y="380880"/>
            <a:ext cx="649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might have happened to the character before the events of the poem happ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2286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oes Edgar Allan Poe use a raven instead of another bird as the major symbol of this po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581280" y="1371600"/>
            <a:ext cx="1833840" cy="2452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304920" y="434340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Why not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09480" y="518148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362320" y="5181480"/>
            <a:ext cx="1428480" cy="1076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114800" y="5181480"/>
            <a:ext cx="1447920" cy="1086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5791320" y="5181480"/>
            <a:ext cx="1428480" cy="1076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7467480" y="5181480"/>
            <a:ext cx="121932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14600" y="2590920"/>
            <a:ext cx="3962520" cy="1828800"/>
          </a:xfrm>
          <a:prstGeom prst="ellipse">
            <a:avLst/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hat might we associ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ith rave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2081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96280" y="304920"/>
            <a:ext cx="7725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say that Edgar Allan Poe sets the scene and cre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tmosphere by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3505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he uses the raven to symbolis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6:33:15Z</dcterms:created>
  <dc:creator>anna</dc:creator>
  <dc:description>The Raven</dc:description>
  <cp:keywords>The Raven</cp:keywords>
  <dc:language>en-US</dc:language>
  <cp:lastModifiedBy>Barbara Vogt</cp:lastModifiedBy>
  <dcterms:modified xsi:type="dcterms:W3CDTF">2009-08-23T20:42:23Z</dcterms:modified>
  <cp:revision>7</cp:revision>
  <dc:subject>The Raven</dc:subject>
  <dc:title>The Raven</dc:title>
</cp:coreProperties>
</file>